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B53D-6650-4FDA-925E-A80F58EC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7A28-28E7-4C4F-93E0-A94358E9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094E-F1B2-49A9-8BC3-D83B8B74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43D5-2CD9-463D-BA59-28C87224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3943-F48E-484C-814C-D1E10B56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7CAA-C46E-4B8D-A199-3C0A501E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90E4-5FCA-4C3D-BCCC-448EEE0F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60AA-6726-4DE6-A2EF-8312DC24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AD61-50F5-4A97-94DE-CD34007D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1165-3784-46B5-9239-D3751827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1E26-EDFE-43A3-846F-DFD5A9C2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D53-8462-4979-9AD2-FCD66399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2561-14EA-403B-BDDE-BD810267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11E9-3FCA-4941-A27A-8D3B8AFF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D692-AD06-49BB-A5C6-2A969614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3041-91B4-41F9-8089-D9F53E12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C527-FFAB-405D-99D1-60B322ED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6E12-57F7-4B50-AA79-AB2FF9C2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62D-778B-4BE7-AEFA-968D6C02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4F17-BC26-497C-AF6C-F94783F2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C8B5-4B3F-4B79-B88C-312E4AEF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9219-4C04-46E2-B976-3C94FB68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473E-2D50-4833-A030-E6444302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66E8-F109-40E0-A72B-A141C431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84EA-7259-48BD-9C6C-D2F4305CD3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64E2-9535-4644-864E-DDBE9AC067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520" y="1285560"/>
            <a:ext cx="7715160" cy="47149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7f0000"/>
                </a:solidFill>
                <a:latin typeface="Comic Sans MS"/>
              </a:rPr>
              <a:t>Общие понятия о сечениях. Правила выполнения наложенных и вынесенных сечений, их обозначение.</a:t>
            </a:r>
            <a:br>
              <a:rPr sz="9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246280" y="4530600"/>
            <a:ext cx="2335320" cy="5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9</a:t>
            </a: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Мысленно представляем фигуру сеч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9"/>
          <p:cNvPicPr/>
          <p:nvPr/>
        </p:nvPicPr>
        <p:blipFill>
          <a:blip r:embed="rId1"/>
          <a:stretch/>
        </p:blipFill>
        <p:spPr>
          <a:xfrm>
            <a:off x="4500720" y="1828800"/>
            <a:ext cx="3816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0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Представленную фигуру изображаем на чертеж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10"/>
          <p:cNvPicPr/>
          <p:nvPr/>
        </p:nvPicPr>
        <p:blipFill>
          <a:blip r:embed="rId1"/>
          <a:stretch/>
        </p:blipFill>
        <p:spPr>
          <a:xfrm>
            <a:off x="5148360" y="1989000"/>
            <a:ext cx="30240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omic Sans MS"/>
              </a:rPr>
              <a:t>На сечениях показывают только то, что находится непосредственно в секущей плоскост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omic Sans MS"/>
              </a:rPr>
              <a:t>Сечение – это не действие, а изображение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3772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Comic Sans MS"/>
              </a:rPr>
              <a:t>Вынесен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9800" y="1557360"/>
            <a:ext cx="3771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Comic Sans MS"/>
              </a:rPr>
              <a:t>Наложен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2626920" y="981000"/>
            <a:ext cx="1368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4211640" y="981000"/>
            <a:ext cx="122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0" descr="12"/>
          <p:cNvPicPr/>
          <p:nvPr/>
        </p:nvPicPr>
        <p:blipFill>
          <a:blip r:embed="rId1"/>
          <a:stretch/>
        </p:blipFill>
        <p:spPr>
          <a:xfrm>
            <a:off x="900000" y="2060640"/>
            <a:ext cx="74170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Обозначение сеч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6" descr="11"/>
          <p:cNvPicPr/>
          <p:nvPr/>
        </p:nvPicPr>
        <p:blipFill>
          <a:blip r:embed="rId1"/>
          <a:stretch/>
        </p:blipFill>
        <p:spPr>
          <a:xfrm>
            <a:off x="900000" y="1413000"/>
            <a:ext cx="7201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Упражнение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0" name="Object 5"/>
          <p:cNvGraphicFramePr/>
          <p:nvPr/>
        </p:nvGraphicFramePr>
        <p:xfrm>
          <a:off x="685800" y="2760840"/>
          <a:ext cx="3772080" cy="17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60840"/>
                    <a:ext cx="3772080" cy="17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Picture 9" descr="13"/>
          <p:cNvPicPr/>
          <p:nvPr/>
        </p:nvPicPr>
        <p:blipFill>
          <a:blip r:embed="rId3"/>
          <a:stretch/>
        </p:blipFill>
        <p:spPr>
          <a:xfrm>
            <a:off x="250920" y="1052640"/>
            <a:ext cx="7921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Упражнение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6" descr="14"/>
          <p:cNvPicPr/>
          <p:nvPr/>
        </p:nvPicPr>
        <p:blipFill>
          <a:blip r:embed="rId1"/>
          <a:stretch/>
        </p:blipFill>
        <p:spPr>
          <a:xfrm>
            <a:off x="468360" y="1125360"/>
            <a:ext cx="7704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учить понятия о сечениях как изображениях, а также их назначение и применен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учить алгоритм построения сечени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вать пространственные представления, пространственное мышл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-11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7" descr="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1989000"/>
            <a:ext cx="3918240" cy="302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2"/>
          <p:cNvPicPr/>
          <p:nvPr/>
        </p:nvPicPr>
        <p:blipFill>
          <a:blip r:embed="rId2"/>
          <a:stretch/>
        </p:blipFill>
        <p:spPr>
          <a:xfrm>
            <a:off x="4643280" y="1844640"/>
            <a:ext cx="4105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-154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8" descr="3"/>
          <p:cNvPicPr/>
          <p:nvPr/>
        </p:nvPicPr>
        <p:blipFill>
          <a:blip r:embed="rId1"/>
          <a:stretch/>
        </p:blipFill>
        <p:spPr>
          <a:xfrm>
            <a:off x="709560" y="549360"/>
            <a:ext cx="76471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5"/>
          <p:cNvPicPr/>
          <p:nvPr/>
        </p:nvPicPr>
        <p:blipFill>
          <a:blip r:embed="rId1"/>
          <a:stretch/>
        </p:blipFill>
        <p:spPr>
          <a:xfrm>
            <a:off x="685800" y="1052640"/>
            <a:ext cx="3772080" cy="4006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6"/>
          <p:cNvPicPr/>
          <p:nvPr/>
        </p:nvPicPr>
        <p:blipFill>
          <a:blip r:embed="rId2"/>
          <a:stretch/>
        </p:blipFill>
        <p:spPr>
          <a:xfrm>
            <a:off x="5724360" y="1557360"/>
            <a:ext cx="2303640" cy="2663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10"/>
          <p:cNvPicPr/>
          <p:nvPr/>
        </p:nvPicPr>
        <p:blipFill>
          <a:blip r:embed="rId3"/>
          <a:stretch/>
        </p:blipFill>
        <p:spPr>
          <a:xfrm>
            <a:off x="4140360" y="4724280"/>
            <a:ext cx="16095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Сечение</a:t>
            </a:r>
            <a:r>
              <a:rPr b="0" lang="ru-RU" sz="4000" spc="-1" strike="noStrike">
                <a:solidFill>
                  <a:srgbClr val="0099ff"/>
                </a:solidFill>
                <a:latin typeface="Comic Sans MS"/>
              </a:rPr>
              <a:t>- это изображение</a:t>
            </a:r>
            <a:r>
              <a:rPr b="0" lang="ru-RU" sz="4000" spc="-1" strike="noStrike" u="sng">
                <a:solidFill>
                  <a:srgbClr val="0099ff"/>
                </a:solidFill>
                <a:uFillTx/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99ff"/>
                </a:solidFill>
                <a:latin typeface="Comic Sans MS"/>
              </a:rPr>
              <a:t>фигуры, полученной при мысленном рассечении предмета секущей плоскостью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omic Sans MS"/>
              </a:rPr>
              <a:t>Назначение сеч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d60093"/>
                </a:solidFill>
                <a:latin typeface="Comic Sans MS"/>
              </a:rPr>
              <a:t>Помогает получать более четкое представление о форме предме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d60093"/>
                </a:solidFill>
                <a:latin typeface="Comic Sans MS"/>
              </a:rPr>
              <a:t>Дает возможность выполнять меньшее количество изображений на чертеж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72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Мысленно провести секущую плоскость в том месте детали, где необходимо определить форму внутреннего конту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7"/>
          <p:cNvPicPr/>
          <p:nvPr/>
        </p:nvPicPr>
        <p:blipFill>
          <a:blip r:embed="rId1"/>
          <a:stretch/>
        </p:blipFill>
        <p:spPr>
          <a:xfrm>
            <a:off x="4932360" y="1557360"/>
            <a:ext cx="3449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Мысленно удаляем одну из частей дета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8"/>
          <p:cNvPicPr/>
          <p:nvPr/>
        </p:nvPicPr>
        <p:blipFill>
          <a:blip r:embed="rId1"/>
          <a:stretch/>
        </p:blipFill>
        <p:spPr>
          <a:xfrm>
            <a:off x="4716360" y="1828800"/>
            <a:ext cx="3503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15:00:58Z</dcterms:created>
  <dc:creator>User</dc:creator>
  <dc:description/>
  <dc:language>en-US</dc:language>
  <cp:lastModifiedBy>Admin</cp:lastModifiedBy>
  <dcterms:modified xsi:type="dcterms:W3CDTF">2012-11-28T15:59:33Z</dcterms:modified>
  <cp:revision>24</cp:revision>
  <dc:subject/>
  <dc:title>Сечение</dc:title>
</cp:coreProperties>
</file>